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wmf" ContentType="image/x-wmf"/>
  <Override PartName="/ppt/media/image22.wmf" ContentType="image/x-wmf"/>
  <Override PartName="/ppt/media/image6.png" ContentType="image/png"/>
  <Override PartName="/ppt/media/image10.wmf" ContentType="image/x-wmf"/>
  <Override PartName="/ppt/media/image2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DA2-0675-43EE-963E-C8D25993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B1F-91E0-4827-ACF5-7509C461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1C6-CB7D-41F7-8C13-2D4E512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5E0-E102-43B4-A00B-2270CAD2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472F-A611-44EA-A5B6-0C06D306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59D8-9DB0-4260-BB6C-F4093661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0E07-F977-4D74-8867-AED5C91B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7867-CB37-4510-ADDC-8F277196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070-B11A-477A-B046-7CF6E19D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266A-3F33-487A-8BA8-119D766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8A0-02ED-4731-9AAA-CC45814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9A5-004D-4D6C-920F-FEB24723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9163-FBDE-4983-AA2A-C7241F0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3597-153F-4D77-84AA-5E5BF8A9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E9C-ED71-4338-83C1-9DA15DF4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C114-7A4F-4BB9-A2E6-F3618992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43AE-81E9-4964-ABC9-D99C84A1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F26-CC94-4B9D-8FE4-504A3185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111-7BBA-4EAA-943D-4A0108E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9DA-CA2C-4491-AABE-9F165199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A9C-7B8C-445F-955F-8DB81CB1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9F4-F888-4ACD-8513-E146C91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0B8-F716-4D84-8C3E-357B29F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FA5-EC0E-4EA7-840B-636423F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44E-3C25-4AD0-AB33-1CA854A5D5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CB62-5CAC-4766-8089-2BA25534A2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15.jpe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246240"/>
            <a:ext cx="8497800" cy="8380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Новый Казахстан в новом мире</a:t>
            </a:r>
            <a:br>
              <a:rPr sz="3000"/>
            </a:br>
            <a:r>
              <a:rPr b="0" i="1" lang="en-US" sz="17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1" lang="en-US" sz="17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Picture 4" descr="120"/>
          <p:cNvPicPr/>
          <p:nvPr/>
        </p:nvPicPr>
        <p:blipFill>
          <a:blip r:embed="rId2"/>
          <a:stretch/>
        </p:blipFill>
        <p:spPr>
          <a:xfrm>
            <a:off x="539640" y="1484280"/>
            <a:ext cx="3251160" cy="44658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572000" cy="47307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м необходимо скорейш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широкое внедр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народных тех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дар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мое главное пору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тельст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его прямая обязан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тветствен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обще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 работа кажд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ра и Ак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ет жестко оценивать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остоянию дел с внедре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народных стандартов в сфере его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8822160" y="-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189080"/>
            <a:ext cx="8461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ми целями технического регулирования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обеспечение  безопасности продукции, услуги, процессов для жизни и здоровья человека и окружающей среды, в том числе растительного и животного ми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обеспечение национальной безопас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обеспечение рационального использования  ресур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 предупреждение действий, вводящих в заблуждение потребителей относительно безопасности продукции, услу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) устранение технических барьеров для товаропроизв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822160" y="-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189080"/>
            <a:ext cx="846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33cc33"/>
                </a:solidFill>
                <a:uFillTx/>
                <a:latin typeface="Arial"/>
              </a:rPr>
              <a:t>Основными целями технического регулирования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1) в области обязательной регламент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беспечение  безопасности продукции,  процессов для жизни и здоровья человека и окружающей среды, в том числе растительного и животного ми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беспечение национальной безопас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едупреждение действий, вводящих в заблуждение потребителей относительно безопасности и качества продукции, услу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устранение технических барьеров в торгов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2) В области стандартиз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вышение конкурентоспособности отечественной продук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кономия природных и энергетических ресур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822160" y="-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8920" y="11253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ые по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8446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дук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зультат процесса или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язательная регламентация требований распространяется только на продук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язательные требования к процессам регламентируются, если процессы связаны  с обеспечением безопасности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34136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870804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8920" y="11253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ые по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184464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Услуг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- нематериальный и неосязаемый объект, как  взаимодействие  поставщика  и  потребителя   по  удовлетворению  потребностей потребителя. Например, это обслуживание в ресторане, парикмахерск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луга не подлежит обязательной регламентации,  требования к качеству услуги  могут носить рекомендательный характер и регулироваться рынком данного вида услу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этому  положения закона распространяются на услугу только в отношении стандартизации и добровольного подтверждения соответств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Реализация Закона «О техническом регулировании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541440" y="725400"/>
          <a:ext cx="10369800" cy="645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725400"/>
                    <a:ext cx="10369800" cy="645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900000" y="1413000"/>
            <a:ext cx="824400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лан разработки технических регламентов на 2007-2009 г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61722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его планируется разработать 97 технических регламенто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9460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3C3F-0266-4674-96EB-9CA5754DA4B3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8000" y="5222520"/>
            <a:ext cx="8964720" cy="81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рамках реализации Плана по разработке технических регламентов на 2007-2009 годы принято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ехнических регламентов. До конца текущего года с участием заинтересованных  государственных органов необходимо принятие еще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технических регламен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7800" y="43200"/>
            <a:ext cx="85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ff"/>
                </a:solidFill>
                <a:latin typeface="Arial"/>
              </a:rPr>
              <a:t>План разработки технических регламент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ff"/>
                </a:solidFill>
                <a:latin typeface="Arial"/>
              </a:rPr>
              <a:t>на 2007-2009 го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836640"/>
            <a:ext cx="87487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332000" y="1341360"/>
          <a:ext cx="6264360" cy="3786120"/>
        </p:xfrm>
        <a:graphic>
          <a:graphicData uri="http://schemas.openxmlformats.org/drawingml/2006/table">
            <a:tbl>
              <a:tblPr/>
              <a:tblGrid>
                <a:gridCol w="3084480"/>
                <a:gridCol w="3179880"/>
              </a:tblGrid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личество разработанных технических регламентов предусмотренных Планами разработки технических регла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лановый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тог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54160" y="4987440"/>
            <a:ext cx="7413480" cy="128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рамках реализации  Решения  Республикой Казахстан разрабатываются три технических регламент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О безопасности зерна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Безопасность лифтов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ребования к бензинам,  дизельному топливу и мазутам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800" y="-123480"/>
            <a:ext cx="853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к первоочередных разработки технических регламентов ЕврАзЭ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шение № 334 от 18.04.2007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1052640"/>
            <a:ext cx="87487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1547640" y="2060640"/>
          <a:ext cx="5472360" cy="3857400"/>
        </p:xfrm>
        <a:graphic>
          <a:graphicData uri="http://schemas.openxmlformats.org/drawingml/2006/table">
            <a:tbl>
              <a:tblPr/>
              <a:tblGrid>
                <a:gridCol w="2694240"/>
                <a:gridCol w="2778120"/>
              </a:tblGrid>
              <a:tr h="82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личество разработанных технических регламентов предусмотренных Планами разработки технических регла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лановый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тог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рмативный правовой акт в области технического регул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04920" y="1179360"/>
            <a:ext cx="88390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1371600"/>
            <a:ext cx="87044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и принятия  технического регламен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тановить единые обязательные требования государства к объектам,  входящих в сферу действия данного  технического регла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ть условия для обеспечения безопасности объектов, на которые распространяется действие указанного технического регламента  для жизни и здоровья людей, охраны окружающей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ние единого правового поля для субъектов технического регул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йствовать устранению технических барьеров в торгов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677800" y="-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79280" y="1125360"/>
            <a:ext cx="889344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200" spc="-1" strike="noStrike" u="sng">
                <a:solidFill>
                  <a:srgbClr val="99cc00"/>
                </a:solidFill>
                <a:uFillTx/>
                <a:latin typeface="Arial"/>
              </a:rPr>
              <a:t>Глава 2.  Технические регламен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Требования технических регламентов  не должны создавать препятствий для предпринимательской деятельности в большей степени, чем это о необходимо для выполнения целей обеспечения безопас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Технические регламенты устанавливают минимально необходимые требования, обеспечивающие безопасность продукции и проце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Требования технических регламентов  устанавливаются и применяются в равной мере, независимо от страны происхождения и (или) места происхождения продукции, за исключением установления и применения санитарных и фитосанитарных 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677800" y="-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79280" y="1125360"/>
            <a:ext cx="889344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 u="sng">
                <a:solidFill>
                  <a:srgbClr val="33cc33"/>
                </a:solidFill>
                <a:uFillTx/>
                <a:latin typeface="Arial"/>
              </a:rPr>
              <a:t>Глава 2.  Технические регламенты     Нов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 17 п. 8 Новая редакция Требования технических регламентов считаются выполненными, если при производстве продукции использовались гармонизированные стандар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производстве продукции могут использоваться иные стандарты при условии обеспечения ими выполнения требований и норм, установленных техническими регламент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.18 дополнена п.7 «Требования, обеспечивающие  безопасность продукции, процессов, устанавливаются только в технических регламент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.19 п.3 изложить  «Уполномоченный орган формирует проект плана по разработке технических регламентов и представляет его в Правительство Республики Казахстан для утверждения. Утвержденный план по разработке технических регламентов подлежит опубликованию в течение одного месяца с даты утвер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допускается финансирование работ по разработке технических регламентов за счет бюджетных средств, не предусмотренных в плане по разработке технических регламент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77800" y="-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68360" y="404640"/>
            <a:ext cx="446580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72500"/>
              </a:gs>
              <a:gs pos="50000">
                <a:srgbClr val="faf5d8"/>
              </a:gs>
              <a:gs pos="100000">
                <a:srgbClr val="b72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Комитет по техническому регулированию и метрологии Министерства индустрии и торговли Республики Казах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58436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158436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9320" y="162396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3208320"/>
            <a:ext cx="3311640" cy="1012680"/>
          </a:xfrm>
          <a:prstGeom prst="rect">
            <a:avLst/>
          </a:prstGeom>
          <a:solidFill>
            <a:srgbClr val="b72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РГП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Казахстанский институ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стандартиз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и сертификаци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084640"/>
            <a:ext cx="3384360" cy="1152720"/>
          </a:xfrm>
          <a:prstGeom prst="rect">
            <a:avLst/>
          </a:prstGeom>
          <a:solidFill>
            <a:srgbClr val="b72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«Националь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рган п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ккредитации»</a:t>
            </a: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64240" y="2833560"/>
            <a:ext cx="23760" cy="2244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kazinst_logo_new2"/>
          <p:cNvPicPr/>
          <p:nvPr/>
        </p:nvPicPr>
        <p:blipFill>
          <a:blip r:embed="rId2"/>
          <a:stretch/>
        </p:blipFill>
        <p:spPr>
          <a:xfrm>
            <a:off x="3089160" y="3213000"/>
            <a:ext cx="1008000" cy="1003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42920" y="-674640"/>
            <a:ext cx="1865520" cy="187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773760" y="81000"/>
            <a:ext cx="2389320" cy="1309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435640" y="3284640"/>
            <a:ext cx="3311640" cy="1012680"/>
          </a:xfrm>
          <a:prstGeom prst="rect">
            <a:avLst/>
          </a:prstGeom>
          <a:solidFill>
            <a:srgbClr val="b72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РГП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Казахстанский институ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ahoma"/>
              </a:rPr>
              <a:t>метрологи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380360" y="3573360"/>
            <a:ext cx="133488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354640" y="5087880"/>
          <a:ext cx="1224000" cy="114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4640" y="5087880"/>
                    <a:ext cx="122400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804000" y="1628640"/>
            <a:ext cx="898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8677800" y="-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58920" y="11253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ые по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184464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армонизированный стандар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 стандарт, обеспечивающий выполнение  требований, установленных техническими регламен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текст его могут быть включены и дополнительные требования, не являющимися обязатель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новные элементы механизма разработки и принятия гармонизированного стандарта и государственного стандарта идентич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70804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9120" y="92880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197000"/>
            <a:ext cx="849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36360" y="961920"/>
            <a:ext cx="90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 разработки   и экспертизы проектов технических регламентов предусматри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создание при  государственных органах  экспертных советов по техническому регулированию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работку стандартов осуществляют технические комитеты по стандарт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677800" y="-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7476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DC04-95E1-41F7-8134-A0BF604D8D7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Основные требования Соглашения ВТО по техническим барьерам в торговл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360440"/>
            <a:ext cx="806616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хническое регулирование осуществляется на  принципе недискриминации: равенстве требований к отечественной и импортируемой продукции, услуг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основе принятия технических решений должны быть требования  международных стандар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бровольность  в выборе  категорий нормативных документов и схем подтверждения соответ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формированность субъектов технического регулирования  о принимаемых технических решениях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22160" y="-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056360" cy="721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е меры по внедрению стандартов ЕВРО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3068640"/>
            <a:ext cx="6048360" cy="863640"/>
          </a:xfrm>
          <a:prstGeom prst="cube">
            <a:avLst>
              <a:gd name="adj" fmla="val 5379"/>
            </a:avLst>
          </a:prstGeom>
          <a:gradFill rotWithShape="0">
            <a:gsLst>
              <a:gs pos="0">
                <a:srgbClr val="d3745d"/>
              </a:gs>
              <a:gs pos="100000">
                <a:srgbClr val="61352a"/>
              </a:gs>
            </a:gsLst>
            <a:lin ang="8100000"/>
          </a:gradFill>
          <a:ln w="9360">
            <a:solidFill>
              <a:srgbClr val="d374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ринято постановление Правительства «Об утверждении плана по разработке технических регламентов на 2007-2009 годы» от 4.05.07г. №3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16360" y="1989000"/>
            <a:ext cx="6048360" cy="792360"/>
          </a:xfrm>
          <a:prstGeom prst="cube">
            <a:avLst>
              <a:gd name="adj" fmla="val 5379"/>
            </a:avLst>
          </a:prstGeom>
          <a:gradFill rotWithShape="0">
            <a:gsLst>
              <a:gs pos="0">
                <a:srgbClr val="d3745d"/>
              </a:gs>
              <a:gs pos="100000">
                <a:srgbClr val="61352a"/>
              </a:gs>
            </a:gsLst>
            <a:lin ang="8100000"/>
          </a:gradFill>
          <a:ln w="9360">
            <a:solidFill>
              <a:srgbClr val="d374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ринят Закон «О внесении изменений и дополнений в некоторые законодательные акты РК по вопросам технического регулирован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5516640"/>
            <a:ext cx="5938560" cy="1008000"/>
          </a:xfrm>
          <a:prstGeom prst="cube">
            <a:avLst>
              <a:gd name="adj" fmla="val 5379"/>
            </a:avLst>
          </a:prstGeom>
          <a:gradFill rotWithShape="0">
            <a:gsLst>
              <a:gs pos="0">
                <a:srgbClr val="d3745d"/>
              </a:gs>
              <a:gs pos="100000">
                <a:srgbClr val="61352a"/>
              </a:gs>
            </a:gsLst>
            <a:lin ang="8100000"/>
          </a:gradFill>
          <a:ln w="9360">
            <a:solidFill>
              <a:srgbClr val="d374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Формирование доказательной базы выполнения требований технического регламента по выбросам (с 2008 года утверждены 25 государственных стандарт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4221000"/>
            <a:ext cx="5976720" cy="1022400"/>
          </a:xfrm>
          <a:prstGeom prst="cube">
            <a:avLst>
              <a:gd name="adj" fmla="val 5379"/>
            </a:avLst>
          </a:prstGeom>
          <a:gradFill rotWithShape="0">
            <a:gsLst>
              <a:gs pos="0">
                <a:srgbClr val="d3745d"/>
              </a:gs>
              <a:gs pos="100000">
                <a:srgbClr val="61352a"/>
              </a:gs>
            </a:gsLst>
            <a:lin ang="8100000"/>
          </a:gradFill>
          <a:ln w="9360">
            <a:solidFill>
              <a:srgbClr val="d374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ринят технический регламент «О требованиях к выбросам вредных (загрязняющих) веществ автотранспортных средств, выпускаемых в обращение на территории  Республики Казахстан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2133720"/>
            <a:ext cx="1439640" cy="647640"/>
          </a:xfrm>
          <a:prstGeom prst="cube">
            <a:avLst>
              <a:gd name="adj" fmla="val 8384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ави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еспублики Казахст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95640" y="2349360"/>
            <a:ext cx="647640" cy="0"/>
          </a:xfrm>
          <a:prstGeom prst="line">
            <a:avLst/>
          </a:prstGeom>
          <a:ln w="1522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4360" y="3141720"/>
            <a:ext cx="1439640" cy="647640"/>
          </a:xfrm>
          <a:prstGeom prst="cube">
            <a:avLst>
              <a:gd name="adj" fmla="val 8384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ави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еспублики Казахст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4437000"/>
            <a:ext cx="1439640" cy="647640"/>
          </a:xfrm>
          <a:prstGeom prst="cube">
            <a:avLst>
              <a:gd name="adj" fmla="val 8384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ави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еспублики Казахст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5661000"/>
            <a:ext cx="1440000" cy="647640"/>
          </a:xfrm>
          <a:prstGeom prst="cube">
            <a:avLst>
              <a:gd name="adj" fmla="val 8384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ави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еспублики Казахст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3500280"/>
            <a:ext cx="647640" cy="0"/>
          </a:xfrm>
          <a:prstGeom prst="line">
            <a:avLst/>
          </a:prstGeom>
          <a:ln w="1522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95640" y="4724280"/>
            <a:ext cx="647640" cy="0"/>
          </a:xfrm>
          <a:prstGeom prst="line">
            <a:avLst/>
          </a:prstGeom>
          <a:ln w="1522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5950080"/>
            <a:ext cx="647640" cy="0"/>
          </a:xfrm>
          <a:prstGeom prst="line">
            <a:avLst/>
          </a:prstGeom>
          <a:ln w="1522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50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0584-9F28-4E92-99F7-E48C390F3BEA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993080" cy="792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недрение стандартов (ЕВРО 2,3,4,5)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СОСТОЯНИ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Tahoma"/>
              </a:rPr>
              <a:t>Законодательная баз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Экологический кодекс Республики Казахстан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«Об автомобильном транспорте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«О государственном регулировании производства и оборота отдельных видов нефтепродуктов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«О техническом регулировании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«О безопасности дорожного движения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Tahoma"/>
              </a:rPr>
              <a:t>Нормативные докумен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 РК  41.24-2007 (Правила ЕЭК ООН № 24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 РК 41.49-           (Правила ЕЭК ООН № 49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 РК  41.83-          (Правила ЕЭК ООН № 83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 РК  41.96-2007 (Правила ЕЭК ООН № 96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ГОСТ 13210-72, ГОСТ 17.2.1.04-77 ГОСТ Р 51313-9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ГОСТ 305-82, ГОСТ 24-23465-79, ГОСТ 4806-79, ГОСТ 24585-81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 РК 1433-05, СТ РК 1183-03, СТ РК 1190-03, СТ РК ГОСТ Р 17.2.2.06-0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8021520" y="26028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AFA5-6783-4F86-A185-E96B71E031FA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Технические регламен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 требованиях к выбросам вредных (загрязняющих) веществ автомобильной техникой, выпускаемой в обращение на территории Республики Казахс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 требованиях к безопасности автотранспортных сред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 требованиях к безопасности бензина,  дизельного топлива и мазу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Охрана окружающ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Производство конкурентоспособных нефтепродук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Испытательные лаборатории (ИЛ), соответствующие международным требовани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. Эксперты-аудиторы международного уров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547640" y="692280"/>
            <a:ext cx="7112160" cy="720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Внедрение стандартов (ЕВРО 2,3,4,5)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РЕЗУЛЬТАТ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59A5-A193-4354-92F9-17BABC7DBFC4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ем Правительства от 29.12.2007 г. № 1372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дельные нормативы выбросов а/транспортных средств ввод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Экологический этап Евро-2 с 15 июля 2009 года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Экологический этап Евро-3 с 1 января 2011 года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Экологический этап Евро-4 с 1 января 2014 года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183440" cy="136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Технический регламент «Требования к  выбросам вредных (загрязняющих)  веществ автотранспортных средств, выпускаемых в обращение на территории Республики Казахстан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6A80-E4E3-48F9-B4B8-318B0127AD53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ем Правительства от 29.12.2007 г.  № 137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ребования к характеристикам топлива для автотранспортных средств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кологический этап Евро 2-с 1 января 2010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кологический этап Евро 3-с 1 января 2011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кологический этап Евро 4-с1 января 2014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183440" cy="136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Технический регламент «Требования к  выбросам вредных (загрязняющих)  веществ автотранспортных средств, выпускаемых в обращение на территории Республики Казахстан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B14C-3C17-4279-9EDA-45BA5C747EC1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тановлением Правительства от 20.03.2009 г. № 371 внесены изменения в технический регламен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Требования безопасности молока и молочной продукции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термины на молоко и молочную продукцию (3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опасные факто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идентификация молока и молочной продук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маркировка 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547640" y="692280"/>
            <a:ext cx="7112160" cy="720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Технический регламент «Требования к безопасности молока и молочной продукции»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A9B-6355-4552-933B-3F11521A2D42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813744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тановление Правительства Республики Казахст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 4 февраля 2008 года № 90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 утверждении технического регламен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Процедуры подтверждения соответств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хнический регламент применяется при подтвержд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ответствия продукции или услуг (в виде прин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екларации о соответствии или выдачи сертифик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ответствия) требованиям, установленны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гламентами, стандартами, или условиями договоро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112160" cy="1224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Технический регламент «Процедуры подтверждения соответствия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5D6C-4EAD-47FD-B448-B3BE29FEA272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19120" y="92880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197000"/>
            <a:ext cx="849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108000" y="1125360"/>
            <a:ext cx="9468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ко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еспублики Казахста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«О техническом регулировании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6320" y="3860640"/>
            <a:ext cx="365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веден в действ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3 мая 2005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.Аст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645000"/>
            <a:ext cx="82090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Сертификация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Проведение сертифик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Сертификация усл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Принятие декларации о соответств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112160" cy="1224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Технический регламент «Процедуры подтверждения соответствия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3AD-1784-494F-B5FD-DF61083ABC2A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тановление Правительства № 277 от 21 марта 2008 г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ебования к упаковке, маркировке, этикетированию и правильному их нанесению»   распространяется на продукцию   отечественного и импортного производства,   реализуемую на территории Республики Казахстан, и устанавливает общие требования к упаковке, маркировке, этикетированию и правильному их нанес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112160" cy="1224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Технический регламент «Требования к упаковке, маркировке, этикетированию и правильному их нанесению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B75-2FFC-43AE-974A-6359F2D454E5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993080" cy="792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Мероприятия по адаптации технических регламентов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 Ввести статистику негативного влияния продукции на здоровье человека и окружающую сре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Опубликовать информацию и комментарии к принятому Техническому регламенту на сайтах центральных и местных органов в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Пересмотр действующих нормативных документов в целях  гармонизации с требованиями технического регламен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8021520" y="26028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EB4F-D4A7-419B-BAAC-93EACF377BAB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стоящий технический регламент дополняет обязательные требования, установленные законами Республики Казахстан, в части маркировки и этикет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ециальные требования к маркировке и этикетированию продукции, при необходимости, устанавливаются техническими регламентами на продукцию конкретного ви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112160" cy="1224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Технический регламент «Требования к упаковке, маркировке, этикетированию и правильному их нанесению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8166240" y="18900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BD5F-79B1-4046-A211-5105E23DCBFC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993080" cy="792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Мероприятия по адаптации технических регламентов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 Необходима установка нового и модернизация старого оборудования на предприятиях, производящих продукц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Проведение круглых столов и семинаров с привлечением заинтересованных государственных органов, органов по подтверждению  соответствия, технических комите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8021520" y="26028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3DB2-34B1-4DD4-B372-B8F41F09E75B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План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государственной стандартизации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на 2009 год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ключает разработку 427 стандартов, в том чис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аботка 21 стандарта по вопросам энергосбереж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нергоэфФе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ополагающие стандар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казательная база к техническим регламентам Р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лание Президента Республики Казахстан,  прорыв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жгосударственные стандар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26776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7B1F-7FCB-4396-8C34-B4823303DFB1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5364000" y="1197000"/>
            <a:ext cx="1619280" cy="1440000"/>
          </a:xfrm>
          <a:prstGeom prst="rect">
            <a:avLst/>
          </a:prstGeom>
          <a:solidFill>
            <a:srgbClr val="b1b9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258920" y="2997360"/>
            <a:ext cx="1619280" cy="143964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348000" y="2997360"/>
            <a:ext cx="1619280" cy="143964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7308720" y="2997360"/>
            <a:ext cx="1619280" cy="143964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297080" y="1197000"/>
            <a:ext cx="1619280" cy="1440000"/>
          </a:xfrm>
          <a:prstGeom prst="rect">
            <a:avLst/>
          </a:prstGeom>
          <a:solidFill>
            <a:srgbClr val="1cb6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7" descr="iec2"/>
          <p:cNvPicPr/>
          <p:nvPr/>
        </p:nvPicPr>
        <p:blipFill>
          <a:blip r:embed="rId2"/>
          <a:stretch/>
        </p:blipFill>
        <p:spPr>
          <a:xfrm>
            <a:off x="2338560" y="3068640"/>
            <a:ext cx="431640" cy="403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СКТ_голубой"/>
          <p:cNvPicPr/>
          <p:nvPr/>
        </p:nvPicPr>
        <p:blipFill>
          <a:blip r:embed="rId3"/>
          <a:stretch/>
        </p:blipFill>
        <p:spPr>
          <a:xfrm>
            <a:off x="2522520" y="1225440"/>
            <a:ext cx="320760" cy="331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din"/>
          <p:cNvPicPr/>
          <p:nvPr/>
        </p:nvPicPr>
        <p:blipFill>
          <a:blip r:embed="rId4"/>
          <a:stretch/>
        </p:blipFill>
        <p:spPr>
          <a:xfrm>
            <a:off x="8317080" y="3068640"/>
            <a:ext cx="550800" cy="4046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3"/>
          <p:cNvSpPr/>
          <p:nvPr/>
        </p:nvSpPr>
        <p:spPr>
          <a:xfrm>
            <a:off x="5364000" y="2997360"/>
            <a:ext cx="1619280" cy="143964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1230480" y="3213000"/>
            <a:ext cx="18288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андарты Международной электротехнической коми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17" descr="Iso"/>
          <p:cNvPicPr/>
          <p:nvPr/>
        </p:nvPicPr>
        <p:blipFill>
          <a:blip r:embed="rId5"/>
          <a:stretch/>
        </p:blipFill>
        <p:spPr>
          <a:xfrm>
            <a:off x="6443640" y="3068640"/>
            <a:ext cx="457200" cy="4046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9"/>
          <p:cNvSpPr/>
          <p:nvPr/>
        </p:nvSpPr>
        <p:spPr>
          <a:xfrm>
            <a:off x="3348000" y="1197000"/>
            <a:ext cx="1619280" cy="1440000"/>
          </a:xfrm>
          <a:prstGeom prst="rect">
            <a:avLst/>
          </a:prstGeom>
          <a:solidFill>
            <a:srgbClr val="b1b9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7308720" y="1197000"/>
            <a:ext cx="1619280" cy="1440000"/>
          </a:xfrm>
          <a:prstGeom prst="rect">
            <a:avLst/>
          </a:prstGeom>
          <a:solidFill>
            <a:srgbClr val="b1b9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1297080" y="4797360"/>
            <a:ext cx="1619280" cy="144000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7308720" y="4797360"/>
            <a:ext cx="1619280" cy="144000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348000" y="4797360"/>
            <a:ext cx="1619280" cy="144000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33" descr="bsi"/>
          <p:cNvPicPr/>
          <p:nvPr/>
        </p:nvPicPr>
        <p:blipFill>
          <a:blip r:embed="rId6"/>
          <a:stretch/>
        </p:blipFill>
        <p:spPr>
          <a:xfrm>
            <a:off x="8101080" y="4869000"/>
            <a:ext cx="761760" cy="349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5" descr="mgs_2"/>
          <p:cNvPicPr/>
          <p:nvPr/>
        </p:nvPicPr>
        <p:blipFill>
          <a:blip r:embed="rId7"/>
          <a:stretch/>
        </p:blipFill>
        <p:spPr>
          <a:xfrm>
            <a:off x="4427640" y="1197000"/>
            <a:ext cx="507960" cy="493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6" descr="gost"/>
          <p:cNvPicPr/>
          <p:nvPr/>
        </p:nvPicPr>
        <p:blipFill>
          <a:blip r:embed="rId8"/>
          <a:stretch/>
        </p:blipFill>
        <p:spPr>
          <a:xfrm>
            <a:off x="6443640" y="1268280"/>
            <a:ext cx="457200" cy="4636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7"/>
          <p:cNvSpPr/>
          <p:nvPr/>
        </p:nvSpPr>
        <p:spPr>
          <a:xfrm>
            <a:off x="1116000" y="120600"/>
            <a:ext cx="8028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Государственный фонд технических регламентов и стандар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9"/>
          <p:cNvSpPr/>
          <p:nvPr/>
        </p:nvSpPr>
        <p:spPr>
          <a:xfrm>
            <a:off x="2196720" y="4797360"/>
            <a:ext cx="688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 Narrow"/>
              </a:rPr>
              <a:t>K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258920" y="1484280"/>
            <a:ext cx="182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ые стандарты Республики Казахст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 382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3348000" y="16318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жгосудар-ствен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анда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9 54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5407200" y="16462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андарты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ции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СН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61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7308720" y="16462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опейские стандарты и дирек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99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3348000" y="306720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андарты Международной организации законодательной метроло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кол-во: 21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8" descr="oiml"/>
          <p:cNvPicPr/>
          <p:nvPr/>
        </p:nvPicPr>
        <p:blipFill>
          <a:blip r:embed="rId9"/>
          <a:stretch/>
        </p:blipFill>
        <p:spPr>
          <a:xfrm>
            <a:off x="4427640" y="2997360"/>
            <a:ext cx="457200" cy="3585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4"/>
          <p:cNvSpPr/>
          <p:nvPr/>
        </p:nvSpPr>
        <p:spPr>
          <a:xfrm>
            <a:off x="5364000" y="3141720"/>
            <a:ext cx="182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андарты Международной организации по стандарт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1 2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0" descr="din"/>
          <p:cNvPicPr/>
          <p:nvPr/>
        </p:nvPicPr>
        <p:blipFill>
          <a:blip r:embed="rId10"/>
          <a:stretch/>
        </p:blipFill>
        <p:spPr>
          <a:xfrm>
            <a:off x="8317080" y="3068640"/>
            <a:ext cx="550800" cy="4046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6"/>
          <p:cNvSpPr/>
          <p:nvPr/>
        </p:nvSpPr>
        <p:spPr>
          <a:xfrm>
            <a:off x="7308720" y="336852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мец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анда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кол-во: 3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1303200" y="523224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орейские станда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кол-во: 45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1"/>
          <p:cNvSpPr/>
          <p:nvPr/>
        </p:nvSpPr>
        <p:spPr>
          <a:xfrm>
            <a:off x="3348000" y="5084640"/>
            <a:ext cx="182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вропейские региональные станда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кол-во: 19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3421080" y="486900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DEX S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>
            <a:off x="5364000" y="4797360"/>
            <a:ext cx="1619280" cy="144000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5364000" y="515772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ериканские станда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 1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4" descr="aashto_small"/>
          <p:cNvPicPr/>
          <p:nvPr/>
        </p:nvPicPr>
        <p:blipFill>
          <a:blip r:embed="rId11"/>
          <a:stretch/>
        </p:blipFill>
        <p:spPr>
          <a:xfrm>
            <a:off x="6443640" y="4816440"/>
            <a:ext cx="484200" cy="4842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0"/>
          <p:cNvSpPr/>
          <p:nvPr/>
        </p:nvSpPr>
        <p:spPr>
          <a:xfrm>
            <a:off x="7280280" y="523224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андарт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рит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ол-во: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6 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900000" y="65088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Общее количество: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55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 52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74880" y="11970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823752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04A2-6F4B-4E8B-B975-37AA9891AD8D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2800" y="11592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Национальные стандарты Республики Казах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Диаграмма 8"/>
          <p:cNvGraphicFramePr/>
          <p:nvPr/>
        </p:nvGraphicFramePr>
        <p:xfrm>
          <a:off x="1427040" y="549360"/>
          <a:ext cx="6774120" cy="52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3" name="Диаграмма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7040" y="549360"/>
                    <a:ext cx="67741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326600" y="5445000"/>
            <a:ext cx="356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оличество стандартов в отра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оличество гармонизированных в отра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258920" y="4365720"/>
            <a:ext cx="3529080" cy="93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Машиностроение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ашиностроительная продукци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 Энергетика и электротехни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 Дорожно-транспортная техни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Строительные материалы и строительство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 Легкая промышленность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4788000" y="4365720"/>
            <a:ext cx="3529080" cy="93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 Сельское хозяйство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 Пищевая промышленность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 Химическая технология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 Металлургия и горное дело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Нефть и газ. Смежные производст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Номер слайда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F98D-1E40-49E5-A0DB-3D23D37ACB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6776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B2C-4F2F-4D40-800A-A566BA8C76DA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Object 4"/>
          <p:cNvGraphicFramePr/>
          <p:nvPr/>
        </p:nvGraphicFramePr>
        <p:xfrm>
          <a:off x="684360" y="1476360"/>
          <a:ext cx="8294400" cy="281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476360"/>
                    <a:ext cx="82944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0" y="5589720"/>
          <a:ext cx="9144000" cy="909360"/>
        </p:xfrm>
        <a:graphic>
          <a:graphicData uri="http://schemas.openxmlformats.org/drawingml/2006/table">
            <a:tbl>
              <a:tblPr/>
              <a:tblGrid>
                <a:gridCol w="4649760"/>
                <a:gridCol w="1595520"/>
                <a:gridCol w="2898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>
                      <a:noFill/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ол-во СТ Р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з них гармонизирова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щий процент гармонизации - 6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7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еальный сектор - 69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Rectangle 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армонизация государственных стандар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международными (по состоянию  01.01.2010 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3752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C43D-395E-4FAC-8C3C-76B005CA0469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826776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758F-515E-40C6-ADDA-9226E1E7CBDA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071720" y="4559400"/>
            <a:ext cx="7885080" cy="1655640"/>
          </a:xfrm>
          <a:prstGeom prst="rect">
            <a:avLst/>
          </a:prstGeom>
          <a:solidFill>
            <a:srgbClr val="1cb6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осударственный фонд технических регламентов и стандар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91440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Работа Информационного Центра             по ТБТ/СФС, ГФТР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>
            <a:off x="3635280" y="1989000"/>
            <a:ext cx="863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57a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1403280" y="1519920"/>
            <a:ext cx="7632720" cy="368280"/>
          </a:xfrm>
          <a:prstGeom prst="rect">
            <a:avLst/>
          </a:prstGeom>
          <a:solidFill>
            <a:srgbClr val="b57a12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формацион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5292720" y="2852640"/>
            <a:ext cx="3384720" cy="93528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ОПРОСЫ СОГЛАШЕНИЯ ПО САНИТАРНЫМ И ФИТОСАНИТАРНЫМ МЕРАМ В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619280" y="2781360"/>
            <a:ext cx="2592360" cy="1008000"/>
          </a:xfrm>
          <a:prstGeom prst="rect">
            <a:avLst/>
          </a:prstGeom>
          <a:solidFill>
            <a:srgbClr val="486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ОПРОСЫ СОГЛАШЕНИЯ ПО ТЕХНИЧЕСКИМ БАРЬЕРАМ В ТОРГОВЛЕ В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>
            <a:off x="2411280" y="4076640"/>
            <a:ext cx="648000" cy="300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7"/>
          <p:cNvSpPr/>
          <p:nvPr/>
        </p:nvSpPr>
        <p:spPr>
          <a:xfrm>
            <a:off x="4140360" y="4221000"/>
            <a:ext cx="647640" cy="300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19"/>
          <p:cNvSpPr/>
          <p:nvPr/>
        </p:nvSpPr>
        <p:spPr>
          <a:xfrm>
            <a:off x="7885080" y="4221000"/>
            <a:ext cx="647640" cy="300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22"/>
          <p:cNvSpPr/>
          <p:nvPr/>
        </p:nvSpPr>
        <p:spPr>
          <a:xfrm flipH="1" rot="10800000">
            <a:off x="5794920" y="1989000"/>
            <a:ext cx="863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57a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6"/>
          <p:cNvSpPr/>
          <p:nvPr/>
        </p:nvSpPr>
        <p:spPr>
          <a:xfrm rot="10800000">
            <a:off x="2411280" y="3789000"/>
            <a:ext cx="648000" cy="299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95880" y="4221000"/>
            <a:ext cx="4074840" cy="9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9"/>
          <p:cNvSpPr/>
          <p:nvPr/>
        </p:nvSpPr>
        <p:spPr>
          <a:xfrm>
            <a:off x="6012000" y="4221000"/>
            <a:ext cx="647640" cy="300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287360" y="4775040"/>
            <a:ext cx="2065320" cy="1081080"/>
          </a:xfrm>
          <a:prstGeom prst="rect">
            <a:avLst/>
          </a:prstGeom>
          <a:solidFill>
            <a:srgbClr val="137e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ФОНД НОРМАТИВНЫХ ДОКУМЕНТОВ (ГФС Р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органы государствен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3519360" y="4846680"/>
            <a:ext cx="1800360" cy="934920"/>
          </a:xfrm>
          <a:prstGeom prst="rect">
            <a:avLst/>
          </a:prstGeom>
          <a:solidFill>
            <a:srgbClr val="137e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САНИТА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Минздрав Р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5392800" y="4846680"/>
            <a:ext cx="1728720" cy="934920"/>
          </a:xfrm>
          <a:prstGeom prst="rect">
            <a:avLst/>
          </a:prstGeom>
          <a:solidFill>
            <a:srgbClr val="137e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ВЕТЕРИНА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Минсельхоз Р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7300800" y="4811760"/>
            <a:ext cx="1592280" cy="934920"/>
          </a:xfrm>
          <a:prstGeom prst="rect">
            <a:avLst/>
          </a:prstGeom>
          <a:solidFill>
            <a:srgbClr val="137e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ФИТОСАНИТА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Минсельхоз Р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уктура государственной системы технического регул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04920" y="1484280"/>
            <a:ext cx="883908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руктуру государственной системы технического регулирования состав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ительство Республики Казахст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олномоченный орг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е органы в пределах своей компетен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Орган по аккреди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кспертные советы в области технического регулирования при государственных органа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формационный центр по техническим барьерам в  торговле, санитарным и фитосанитарным мер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хнические комитеты по стандарт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органы по подтверждению соответствия, лаборатор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ксперты-аудиторы по подтверждению соответствия, определению страны происхождения товара и аккреди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й фонд нормативных правовых актов в области технического регулирования и стандар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750880" y="-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847476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960-F522-429E-B913-220B7678CBB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Основные требования Соглашения ВТО по санитарным и фитосанитарным мера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3880" y="1353960"/>
            <a:ext cx="86108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622440"/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Санитарные и фитосанитарные меры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 любые меры, применяемые: для  защиты жизни или здоровья животных или растений от рисков, возникаю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822160" y="-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2749680"/>
            <a:ext cx="820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связи    с проникновением, укоренением или распространением вредителей, заболеваний, организмов – переносчиков болезн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 добавок, загрязняющих веществ, токсинов или болезнетворных организмов в пищевых продуктах, напитках или кормах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болезнями, переносимыми животными, растениями или продукцией из них, или в связи с проникновением, укоренением или распространением вред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826776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2F5C-4451-447F-A1C0-E449F9431E4B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42920" y="115920"/>
            <a:ext cx="777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частие Казахстана в работе с техническими комитетами И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1268280"/>
            <a:ext cx="7777080" cy="7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60360" y="1700280"/>
            <a:ext cx="7489800" cy="71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09600" y="1339920"/>
            <a:ext cx="76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Международная организация по стандартизации - ИС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5587920"/>
            <a:ext cx="7777080" cy="7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60360" y="5229360"/>
            <a:ext cx="7489800" cy="71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05080" y="2276640"/>
            <a:ext cx="1079280" cy="936360"/>
          </a:xfrm>
          <a:prstGeom prst="rect">
            <a:avLst/>
          </a:prstGeom>
          <a:solidFill>
            <a:srgbClr val="66cc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52720" y="2276640"/>
            <a:ext cx="1079640" cy="936360"/>
          </a:xfrm>
          <a:prstGeom prst="rect">
            <a:avLst/>
          </a:prstGeom>
          <a:solidFill>
            <a:srgbClr val="3366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76720" y="2276640"/>
            <a:ext cx="1152720" cy="936360"/>
          </a:xfrm>
          <a:prstGeom prst="rect">
            <a:avLst/>
          </a:prstGeom>
          <a:solidFill>
            <a:srgbClr val="cc99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О/ТК 1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Медь, свинец, руды и концетрации свинца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00720" y="2276640"/>
            <a:ext cx="1079640" cy="936360"/>
          </a:xfrm>
          <a:prstGeom prst="rect">
            <a:avLst/>
          </a:prstGeom>
          <a:solidFill>
            <a:srgbClr val="cc99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О/ТК 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«Цинк и сплавы цинка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53440" y="2276640"/>
            <a:ext cx="1225440" cy="936360"/>
          </a:xfrm>
          <a:prstGeom prst="rect">
            <a:avLst/>
          </a:prstGeom>
          <a:solidFill>
            <a:srgbClr val="99cc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О/ТК 6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Материалы, обор. и сооружения для нефтяной и газовой пром.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29080" y="4508640"/>
            <a:ext cx="1079280" cy="936360"/>
          </a:xfrm>
          <a:prstGeom prst="rect">
            <a:avLst/>
          </a:prstGeom>
          <a:solidFill>
            <a:srgbClr val="ff99cc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52720" y="4508640"/>
            <a:ext cx="1079640" cy="936360"/>
          </a:xfrm>
          <a:prstGeom prst="rect">
            <a:avLst/>
          </a:prstGeom>
          <a:solidFill>
            <a:srgbClr val="3366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76720" y="4508640"/>
            <a:ext cx="2305080" cy="936360"/>
          </a:xfrm>
          <a:prstGeom prst="rect">
            <a:avLst/>
          </a:prstGeom>
          <a:solidFill>
            <a:srgbClr val="cc99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ТК 5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«Цветна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еталлургия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24720" y="4508640"/>
            <a:ext cx="1152720" cy="936360"/>
          </a:xfrm>
          <a:prstGeom prst="rect">
            <a:avLst/>
          </a:prstGeom>
          <a:solidFill>
            <a:srgbClr val="99cc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К 33, 49,5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Нефтяное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 промыш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енность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59360" y="2519280"/>
            <a:ext cx="114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О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4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Информац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кументация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83600" y="2492280"/>
            <a:ext cx="12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О/ТК 3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«Терминология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32320" y="4653000"/>
            <a:ext cx="110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К 5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«Систем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енеджмента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60720" y="3213000"/>
            <a:ext cx="216000" cy="1295640"/>
          </a:xfrm>
          <a:prstGeom prst="upDownArrow">
            <a:avLst>
              <a:gd name="adj1" fmla="val 50000"/>
              <a:gd name="adj2" fmla="val 1194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36720" y="3213000"/>
            <a:ext cx="216000" cy="1295640"/>
          </a:xfrm>
          <a:prstGeom prst="upDownArrow">
            <a:avLst>
              <a:gd name="adj1" fmla="val 50000"/>
              <a:gd name="adj2" fmla="val 1194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508720" y="3213000"/>
            <a:ext cx="215640" cy="1295640"/>
          </a:xfrm>
          <a:prstGeom prst="upDownArrow">
            <a:avLst>
              <a:gd name="adj1" fmla="val 50000"/>
              <a:gd name="adj2" fmla="val 1196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34160" y="3213000"/>
            <a:ext cx="216000" cy="1295640"/>
          </a:xfrm>
          <a:prstGeom prst="upDownArrow">
            <a:avLst>
              <a:gd name="adj1" fmla="val 50000"/>
              <a:gd name="adj2" fmla="val 1194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58160" y="3213000"/>
            <a:ext cx="216000" cy="1295640"/>
          </a:xfrm>
          <a:prstGeom prst="upDownArrow">
            <a:avLst>
              <a:gd name="adj1" fmla="val 50000"/>
              <a:gd name="adj2" fmla="val 1194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33440" y="1822320"/>
            <a:ext cx="739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ехнические комитеты ИС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60360" y="5587920"/>
            <a:ext cx="74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ехнические комитеты на базе РГП «КазИнС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62080" y="6004080"/>
            <a:ext cx="77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Казахстанские технические комитеты</a:t>
            </a: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kk-KZ" sz="1400" spc="-1" strike="noStrike">
                <a:solidFill>
                  <a:srgbClr val="4d4d4d"/>
                </a:solidFill>
                <a:latin typeface="Arial"/>
              </a:rPr>
              <a:t>Всего 48</a:t>
            </a: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84720" y="3213000"/>
            <a:ext cx="216000" cy="1295640"/>
          </a:xfrm>
          <a:prstGeom prst="upDownArrow">
            <a:avLst>
              <a:gd name="adj1" fmla="val 50000"/>
              <a:gd name="adj2" fmla="val 1194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27280" y="2276640"/>
            <a:ext cx="1008000" cy="936360"/>
          </a:xfrm>
          <a:prstGeom prst="rect">
            <a:avLst/>
          </a:prstGeom>
          <a:solidFill>
            <a:srgbClr val="ff99cc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О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17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Администри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ование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 управление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чеством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41440" y="4510080"/>
            <a:ext cx="1079640" cy="936720"/>
          </a:xfrm>
          <a:prstGeom prst="rect">
            <a:avLst/>
          </a:prstGeom>
          <a:solidFill>
            <a:srgbClr val="66cc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04000" y="4581360"/>
            <a:ext cx="1095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К 2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Информа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ионно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еспечение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51280" y="458136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К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«Терминология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3752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6CCA-A5A7-4E26-92A3-B65804BA3DFD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000" y="2852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Спасибо за внимание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Трапеция 14"/>
          <p:cNvSpPr/>
          <p:nvPr/>
        </p:nvSpPr>
        <p:spPr>
          <a:xfrm>
            <a:off x="1285920" y="2712960"/>
            <a:ext cx="4786200" cy="1216080"/>
          </a:xfrm>
          <a:prstGeom prst="pie">
            <a:avLst/>
          </a:prstGeom>
          <a:solidFill>
            <a:srgbClr val="85e0e0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ические регла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Блок-схема: процесс 6"/>
          <p:cNvSpPr/>
          <p:nvPr/>
        </p:nvSpPr>
        <p:spPr>
          <a:xfrm>
            <a:off x="7143840" y="1143000"/>
            <a:ext cx="1714320" cy="2143080"/>
          </a:xfrm>
          <a:prstGeom prst="flowChartProcess">
            <a:avLst/>
          </a:prstGeom>
          <a:solidFill>
            <a:srgbClr val="002060">
              <a:alpha val="6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 требований законов и технических регламентов обязатель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Блок-схема: процесс 7"/>
          <p:cNvSpPr/>
          <p:nvPr/>
        </p:nvSpPr>
        <p:spPr>
          <a:xfrm>
            <a:off x="7143840" y="3643200"/>
            <a:ext cx="1714320" cy="1357560"/>
          </a:xfrm>
          <a:prstGeom prst="flowChartProcess">
            <a:avLst/>
          </a:prstGeom>
          <a:solidFill>
            <a:srgbClr val="002060">
              <a:alpha val="6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дарты добровольные в части выб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ая соединительная линия 8"/>
          <p:cNvSpPr/>
          <p:nvPr/>
        </p:nvSpPr>
        <p:spPr>
          <a:xfrm>
            <a:off x="4786200" y="1857240"/>
            <a:ext cx="2071800" cy="1800"/>
          </a:xfrm>
          <a:prstGeom prst="line">
            <a:avLst/>
          </a:prstGeom>
          <a:ln w="2844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ая соединительная линия 9"/>
          <p:cNvSpPr/>
          <p:nvPr/>
        </p:nvSpPr>
        <p:spPr>
          <a:xfrm>
            <a:off x="5572080" y="3071880"/>
            <a:ext cx="1285920" cy="1440"/>
          </a:xfrm>
          <a:prstGeom prst="line">
            <a:avLst/>
          </a:prstGeom>
          <a:ln w="2844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ая соединительная линия 10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Равнобедренный треугольник 11"/>
          <p:cNvSpPr/>
          <p:nvPr/>
        </p:nvSpPr>
        <p:spPr>
          <a:xfrm>
            <a:off x="2376360" y="1069920"/>
            <a:ext cx="2571840" cy="1501920"/>
          </a:xfrm>
          <a:prstGeom prst="triangle">
            <a:avLst>
              <a:gd name="adj" fmla="val 49662"/>
            </a:avLst>
          </a:prstGeom>
          <a:solidFill>
            <a:srgbClr val="85e0e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кон Республики Казастан</a:t>
            </a:r>
            <a:br>
              <a:rPr sz="1000"/>
            </a:br>
            <a:r>
              <a:rPr b="1" lang="kk-KZ" sz="1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“О техническом регулировании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Блок-схема: процесс 20"/>
          <p:cNvSpPr/>
          <p:nvPr/>
        </p:nvSpPr>
        <p:spPr>
          <a:xfrm>
            <a:off x="2987640" y="3284640"/>
            <a:ext cx="1071720" cy="571320"/>
          </a:xfrm>
          <a:prstGeom prst="flowChartProcess">
            <a:avLst/>
          </a:prstGeom>
          <a:solidFill>
            <a:srgbClr val="66cc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о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 Т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69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стема технического регулирования 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публике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Номер слайда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Трапеция 15"/>
          <p:cNvSpPr/>
          <p:nvPr/>
        </p:nvSpPr>
        <p:spPr>
          <a:xfrm>
            <a:off x="108000" y="4076640"/>
            <a:ext cx="7072200" cy="1216080"/>
          </a:xfrm>
          <a:prstGeom prst="pie">
            <a:avLst/>
          </a:prstGeom>
          <a:solidFill>
            <a:srgbClr val="85e0e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ндарты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как доказательная база к техническим регламен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94680" y="109440"/>
            <a:ext cx="1352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05F3-6C6C-4FD8-BEF8-BCAB957B2D35}" type="slidenum">
              <a:rPr b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CC94-0451-410F-8166-448DAD788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Document"/>
          <p:cNvSpPr/>
          <p:nvPr/>
        </p:nvSpPr>
        <p:spPr>
          <a:xfrm>
            <a:off x="2124000" y="4005360"/>
            <a:ext cx="4608720" cy="2160360"/>
          </a:xfrm>
          <a:prstGeom prst="pie">
            <a:avLst/>
          </a:prstGeom>
          <a:solidFill>
            <a:srgbClr val="eecd64"/>
          </a:solidFill>
          <a:ln w="25560">
            <a:solidFill>
              <a:srgbClr val="57578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ПРОГРАММА РАЗВИТИЯ СИСТЕМЫ ТЕХНИЧЕСКОГО РЕГУЛИРОВАНИЯ НА 2007-200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ГОД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cc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еформирование системы технического регулирования в Республике Казах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11280" y="3075120"/>
            <a:ext cx="76327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еспублики Казахстан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 29 ноября 2006 года № 11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11280" y="907920"/>
            <a:ext cx="7705800" cy="1140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кон Республики Казахстан «О техническом регулирован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11280" y="1844640"/>
            <a:ext cx="7705800" cy="128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а Правительства Республики Казахстан на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-2009 год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BA65-C51B-4ECE-823A-FDE0015F1C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216000" y="1125360"/>
            <a:ext cx="874872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3300"/>
          </a:solidFill>
          <a:ln w="9360">
            <a:solidFill>
              <a:srgbClr val="d374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erdana"/>
              </a:rPr>
              <a:t>Совершенствование законодательства в области технического регулир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4932360" y="4365720"/>
            <a:ext cx="1727280" cy="1871640"/>
          </a:xfrm>
          <a:prstGeom prst="pie">
            <a:avLst/>
          </a:prstGeom>
          <a:solidFill>
            <a:srgbClr val="cc9900"/>
          </a:solidFill>
          <a:ln w="25560">
            <a:solidFill>
              <a:srgbClr val="57578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кон «О безопасности пищевой продукци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ocument"/>
          <p:cNvSpPr/>
          <p:nvPr/>
        </p:nvSpPr>
        <p:spPr>
          <a:xfrm>
            <a:off x="7164360" y="4365720"/>
            <a:ext cx="1727280" cy="1942920"/>
          </a:xfrm>
          <a:prstGeom prst="pie">
            <a:avLst/>
          </a:prstGeom>
          <a:solidFill>
            <a:srgbClr val="cc9900"/>
          </a:solidFill>
          <a:ln w="25560">
            <a:solidFill>
              <a:srgbClr val="57578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кон «О безопасности химической продукци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Document"/>
          <p:cNvSpPr/>
          <p:nvPr/>
        </p:nvSpPr>
        <p:spPr>
          <a:xfrm>
            <a:off x="468360" y="4365720"/>
            <a:ext cx="1763640" cy="1942920"/>
          </a:xfrm>
          <a:prstGeom prst="pie">
            <a:avLst/>
          </a:prstGeom>
          <a:solidFill>
            <a:srgbClr val="cc9900"/>
          </a:solidFill>
          <a:ln w="25560">
            <a:solidFill>
              <a:srgbClr val="57578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кон «О безопасности машин и оборуд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Document"/>
          <p:cNvSpPr/>
          <p:nvPr/>
        </p:nvSpPr>
        <p:spPr>
          <a:xfrm>
            <a:off x="2700360" y="4365720"/>
            <a:ext cx="1727280" cy="1871640"/>
          </a:xfrm>
          <a:prstGeom prst="pie">
            <a:avLst/>
          </a:prstGeom>
          <a:solidFill>
            <a:srgbClr val="cc9900"/>
          </a:solidFill>
          <a:ln w="25560">
            <a:solidFill>
              <a:srgbClr val="57578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кон «О безопасности игруше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Document"/>
          <p:cNvSpPr/>
          <p:nvPr/>
        </p:nvSpPr>
        <p:spPr>
          <a:xfrm>
            <a:off x="1403280" y="1341360"/>
            <a:ext cx="2305080" cy="2230560"/>
          </a:xfrm>
          <a:prstGeom prst="pie">
            <a:avLst/>
          </a:prstGeom>
          <a:solidFill>
            <a:srgbClr val="cc9900"/>
          </a:solidFill>
          <a:ln w="25560">
            <a:solidFill>
              <a:srgbClr val="57578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кон «О внесении изменений и дополнений в некоторые законодательные акты по вопросам технического регулир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3995640" y="2349360"/>
            <a:ext cx="576360" cy="142920"/>
          </a:xfrm>
          <a:prstGeom prst="rightArrow">
            <a:avLst>
              <a:gd name="adj1" fmla="val 50000"/>
              <a:gd name="adj2" fmla="val 100819"/>
            </a:avLst>
          </a:prstGeom>
          <a:solidFill>
            <a:srgbClr val="993300"/>
          </a:solidFill>
          <a:ln w="255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5003640" y="2060640"/>
            <a:ext cx="2808360" cy="1081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Внесены изменени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в 33 закона  РК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3880" y="33526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37160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0040" y="2289240"/>
          <a:ext cx="6049800" cy="15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0040" y="2289240"/>
                    <a:ext cx="6049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677800" y="-7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8920" y="11253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ые по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84464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осударственная система технического регулиров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совокупность государственных органов, физических и юридических лиц, осуществляющих работы в области технического регулирования в пределах своей компетенции, а также нормативных правовых актов, стандар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08040" y="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Cyr"/>
              </a:rPr>
              <a:t>Закон Республики Казахс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Cyr"/>
              </a:rPr>
              <a:t>«О техническом регулировании»  предусматрива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9120" y="92880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97000"/>
            <a:ext cx="849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84400"/>
            <a:ext cx="845820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Единство и целостность системы технического регулирования;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беспечение равных возможностей для участия в процессах технического регулирования;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венство требований к отечественной и импортируемой продукции и процедурам подтверждения ее соответствия установленным требования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оритетное использование при разработке технических регламентов международных нормативных  правовых актов в области технического регулирования и стандарт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22160" y="-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8:38:36Z</dcterms:created>
  <dc:creator>elena</dc:creator>
  <dc:description/>
  <dc:language>en-US</dc:language>
  <cp:lastModifiedBy>Admin</cp:lastModifiedBy>
  <dcterms:modified xsi:type="dcterms:W3CDTF">2011-01-28T07:49:05Z</dcterms:modified>
  <cp:revision>123</cp:revision>
  <dc:subject/>
  <dc:title>Закон  Республики Казахстан   «О техническом регулировании»</dc:title>
</cp:coreProperties>
</file>